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D07D7-D895-45C1-87DC-5FFCE6141E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C38E0-B43F-4637-96F2-30E55FE1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3C96E8-F0CD-43ED-A8EC-B96713FB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AAF8D5-EC43-4879-B90A-1A5ED771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D957CB-A3B1-4317-8F62-EC5BBE10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8EFC9-E99D-446B-AD86-C6B019ED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E17F1A-1F51-4A45-A9D8-6350F3F7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275DAD-1358-40BC-AEDA-7010C833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1974FB-FE3A-46AA-B3AB-CC79A72D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DEEEAE-BC1B-4312-9E2A-C43AE9F9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DAF4F4-7884-4C2C-BDDB-927E6B28B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9F785-FB1F-45CD-B889-EFFFAD4ED0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5CDAD-CECB-487E-84A9-297E668A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15E45-01E6-4924-AAA8-0FCAB29D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2912-0939-4A35-A13F-96EB345C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8D33F-3CB5-4B93-9C5A-5D3437F5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F6429-A9D0-4AC4-A870-85A73DEFE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6DD2F-1F78-474F-BD8D-04BF802F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E6E19-36A8-4DF9-AD5F-B9C81F3E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52C96-BB87-4AEE-BBDC-95B1B24C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5E894-7472-4277-B506-2B358748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85EF1-AFDF-49DF-8128-35A993D9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FD3CC-1651-4F43-8D8A-72615DE1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6E19-1F28-47C2-A539-006DB7CF70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D2115-DB35-422C-9051-5690B3FE8D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2F603-9CD6-4DC4-ABF0-A021CBF8E4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32825F-A16C-428D-B6AA-0AD0701A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E6FF12-6680-4070-A5E2-F365205A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B82B41-DA3B-4680-8940-70A8BF6D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C2494A-3153-49EF-A659-4D6F559B0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7F342F-C1C9-4DF5-85FE-2B38B445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B39B1B-AFDD-40F3-AC1A-F91FD296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740EA8-47E3-4310-96C4-BBDA1CD5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BB51B8-B5BA-48E5-B67C-715582E1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118A1-0970-4CAD-83A7-80740D2A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4ACAFE-BAB9-4A11-8328-DF0B2E2D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95B1B2-E0B1-4277-B255-69BCAD55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7FAA76-2019-4DDA-A946-709E220945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33D85-F488-420B-8911-FC94CA512B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D4392F-EB9F-4793-87C9-517384D5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4E3DD0-D950-46AE-BC98-9FF6A89F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D74E3-0AD7-4E89-A56C-F5F2C9FD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90708-3BF1-4384-83A2-AC625E0B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E8DBE-11B9-41FD-831A-783B17DA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3B244-AA79-4380-861F-50E8DF37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3823B-4C66-4265-8DA1-3BE78362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D32E35-09A3-44DA-8589-893F5818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D3D945-AC3C-4A2B-9A29-3B6EC842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9D20BA-AA16-4699-AB12-12035321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CEA37-00FC-4758-A8B3-065852C1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ED3C16-91A4-4ACF-9E0B-808E608913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B8F712-1700-46C2-B1A9-F9348F21C4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DF8FC-07E9-4B10-B1CD-ED540AA9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FDD91-9BB5-4CD0-80DD-0DC3DA6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F23B0-7B20-4C4A-A015-94A3078C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1B946-616D-4F1A-858A-6A41E604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568D4-2F0C-4BCD-AC4E-48D6370D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ACC94-D200-41EA-9A76-1EE1104D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B9169-6FF0-480D-8135-C8C4E54B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A5E76-DF11-49D5-B46B-DF43679A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C02A9-7925-409E-99A9-91E77DD2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B3204-55DC-4C73-8161-4F36B3B6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72665-294E-438E-BC64-D4348437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30EF8-A0E1-4D8E-9C73-56F028EC59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2AD2F-183E-472B-B7DF-2ED6DF44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CDF7A-B581-4044-9A7A-7F8745FA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30AEC-8036-4079-BC40-E306BDB4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52002-19D2-4D78-A694-7A0323EE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28CF-18FA-4786-B8BE-9BC69C8F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DF30C5-F050-4A29-AAB2-3A716A69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21A21-AF68-40B9-A5BA-C662B782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8B0F3-4361-4DA8-AAA3-3A3F7BD9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1C176-7CA5-4C30-B808-469F7942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C5CB7-DACE-405F-8720-D2A01DA6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53D55-57FF-43C1-BB5E-9E08FE90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B6A91-9CF1-48F2-A486-E8BDEF27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16051-DCA1-4485-8272-DDC8F8E3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07320-7FD7-4308-BB73-87DE180F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03CE0-C503-4695-BDAA-CE3B2983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D7079-DAFF-409E-BD6A-01594A91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A194B-C0DF-4AD4-A5E7-0C69B030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049B4-E0D1-472E-BEA0-7E251B12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AA5D6-EC42-40C5-B2F8-5861B705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D3C83-75B0-4FB9-B09A-5C956EA6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144CC-216D-481C-A670-FFF4A9FB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2DC88-AC1D-4AE9-96F8-5D692D33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B5859-18BB-46B5-AFAC-18771BC3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DB316-DA9F-4C57-93D0-D89C8FBB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7EF0A-897A-4375-9088-590C7A462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AE745-D8B6-4801-A018-E8015BA7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86AA9-47D7-42E7-9FCD-51FA4375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59CEA-6035-4460-8E82-68980CCE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E3980-546C-445B-8C9F-AC74DB8B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2D38B-F45E-4394-A33A-16A294A8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2B412-C2C5-43BF-85AB-8B110A3C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A4666-226D-4309-9285-1FE7191C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AB61E-18C7-447E-A802-0CCAFBB1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27841-B052-44AC-9125-574A57D9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2C9B5-CE2E-42D9-A8D5-033FA29B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FFB87-4F80-4DFD-809A-E818CE80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AAA79-9881-42DD-AF7E-7C4F1903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29287-C5DD-4C69-B51E-9B64B41D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8C6A5-DC3A-42E8-8A82-0F4FA116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F1830-7868-4B7B-8C76-A58D62FE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F688A-7E06-4605-A599-F3EA26A6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8CD596-183D-44A2-9EEE-38002C6B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FEDD4-C2FB-44FF-80B6-2DEEDDC0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AC21BC-8B0C-4512-9CCB-2FA25B9E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2E008E-DB1C-4FC7-9F7F-B6295BBB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4BC696-432A-4936-BA69-6B7AA5A9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A1508-D782-47F1-8F4F-50258914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36C6-E976-44CD-9F8A-C97EE7C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CE8A8-B89C-41E2-B421-0845E669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0C33E-289E-463C-B125-686C8220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1239E-85A2-4682-AE62-2B7AE760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12EF4-28EA-4A12-ADF8-42065564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EA176-0BBF-4992-9300-95ECB10E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3EDCC-D155-487E-A3B6-DFA3F3CE4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D48FB-8182-4FA7-BDF5-A3806144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2488CE-BFA6-41D1-B61B-960BE52F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2CD85-D115-4529-8DEC-723A7D9E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C49E3C-EAE3-41EE-B9AE-663F319F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601F8-581A-47D6-8B74-3096760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DFDB2-1153-418C-A3DD-A7382A0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FFE69-ECA0-4EFE-93AB-83F98AB7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D935E-2AE2-48A1-9263-A105C00D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1B060-D6C5-4D19-987E-4A9BE0A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E4DF8-AB16-4154-8CE1-EEF5C10F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50C308-74A6-4307-AEC6-522E90A8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AE157-A243-462D-8874-CA9B6C86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6BA2E-3742-4EAC-B8BB-B4B05D4ED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8F9E5-F316-4E0C-B4EC-6F47D027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DB9D0C-FC00-4CEF-A49A-7381EFA1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C07E8C-6938-4555-A816-3A39A17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415C6-8FF1-4175-B3C7-2E074B0F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43DA7-FBD8-4FAD-88E9-43E0DF99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CCC30-9BEF-4923-A286-DAAD6770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BF682-C78E-46C7-A9AE-07098BD0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D3917-8F27-4549-912D-657C9A82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B57F5-2FC8-43BE-B73C-0FF3F4BA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BCD94-FE9D-44CA-9C4D-B98267C4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100690-C820-42B7-8703-7605BCA7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65BB75-FB71-456C-849A-3D264774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0C3ED-9990-4EBE-A28D-70413B05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A4BD38-4636-4958-920D-24FD1174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AFC4C-CF68-48F6-90BF-F0D3906CC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57D0D-EB4A-4845-B53E-E5AE82BE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68AA6-0A2E-473F-B860-A87839F9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5A7C5-1CEF-4EE8-95B2-C9148A83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883A3-2BC7-41FD-82E1-079AAF1F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B6939-BF85-479E-95A2-D7310551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ACEE7-416A-48F9-B3DA-E42DF568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27BF4-4580-484C-982D-5D6B7D06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B21FC-B588-4ACD-9893-52367EF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4A0B6-B047-49BC-8DE7-4FFC84EC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3E8AD-B2E2-4554-A69C-BF9D9BD9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3EC6-1145-476F-9069-C7ADFE51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18EFC6-65E2-48A0-A654-4272CA27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14AAE-614C-4855-8150-B78DFBAB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DC8A8-A0CD-4511-A75A-6C66D678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DEC710-687B-4474-BF87-F5073959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212BEE-F881-4085-A873-6367A6BC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35173-065A-4E69-BA6B-05CF204B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EFE9A0-F93E-4DA6-8854-DBB7BB51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4F3A0-1766-48C9-8760-9CB28B10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83628-5F37-4FC9-A60F-F9315B49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2D688-B416-4887-B9B1-C97CEC05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1D51B-EC3E-4ED9-B406-6A690C84C1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1817F5-70C8-4463-B642-71AA5E27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241FF-011E-45F5-A514-316CDA7AB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8DC248-1710-4B4B-8040-3786C42E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B56554-D88C-42A1-98CE-0F157D8F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8862CF-FC85-424B-849F-8A45B3C9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D7449-A931-40AD-A972-979C1B42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DC563-641F-4652-96F7-123AEA03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94523D-8E9D-465A-93ED-A246E962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63001-E351-44F9-BA25-85898E33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BC172D-47C7-4C87-9F9B-59BDD72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71461-4976-4E20-A9AE-2560E181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03913-7CA2-4A25-BE60-99C38D62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52F034-8ADA-4E8A-8465-3DFE342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CE047D-93D3-4B32-8366-566A95C7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B6F124-B451-4EFC-B3F3-46513E34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9091C7-5901-440E-A178-22813BAF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0E051-C62C-4466-972A-78192EC4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20E885-0429-4EA0-8706-13B5EB6F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6E8F9-5A2A-4D7F-931A-DB2B33E1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37E03-DA69-465E-BEA7-4723062C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2EB30A-0E1F-474D-8EDF-EFEF6C74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D4DB2-C9C0-484B-8BE1-438CA1CE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371C62-9CF0-4280-9721-74F23015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B8F063-E882-4B7D-B5ED-D2552841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D4220-74A8-4E78-8F56-54954C92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C5CD7B-2951-4591-AFAA-7E3EF7AA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AA5756-051E-4E69-B2A4-ADF64AB4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FEB48D-2E72-4370-A459-51431AFC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6C1809-B134-423B-BF94-F0F6F75B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8ED56-0791-40F5-8480-D7F090D7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6675D3-D073-4E94-BF09-99BA4C20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9AE9CA-3AA6-4941-B29C-4A29BC1D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EB5A8D-3B86-4D16-A921-135DFDC6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795A6-3D19-42DF-8995-49CB182E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07C70E-E306-4159-B673-7CFE6B47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FB85A-8E3E-4C00-AD58-D12C8EF3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01793-6EA9-44D0-BE6E-B8D6A05B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DA790F-8C3C-4B62-9770-EF76125C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48A339-63EC-49CF-80D5-6425F97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6B888-97C6-4844-9BC3-A19DC542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50B375-66B2-47D4-BB4C-BF3AD83C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74B4A8-8FDB-4865-B4B3-9D7F5E35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31105-566E-4B00-B9EF-D61FB3C2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27C3-531D-4E64-B5E6-05B8C900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1E3214-0A98-4901-8C1B-67C16D31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0ABA66-048B-48BD-8A66-263D193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2032D-D7F7-4610-BD9E-15800A48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D3A9A4-F0B0-4467-AB14-1416FB3C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BE2608-1A1A-4169-BE48-DAC2F349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53E3AC-9C82-4E5B-98DF-B1482962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2A1F3-00F8-4076-AE5C-E8FF148E10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C4A1-F699-48C3-B022-477BC1A998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AD093-BFC9-4834-AF23-518C307B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ECDC1-F4FB-4E97-9D17-7C60F87D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29CA-8189-4586-873D-68C694F4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C1C6B-D88C-4C47-AEEC-72762C52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271AF-8DE6-4A47-9672-49D61E20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548F0-7CA6-43CA-8529-D412A16F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13F45-5CFF-4D97-B9D4-476AAC9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4FCD-0C1B-4A68-B0C7-2AF3998A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4B6BC-38A5-4CE6-A784-008D9240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086E-F2FB-40F3-8C3F-2A628189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2E94-8AE2-4C41-8573-83DF22A4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5002-FF5E-4F96-B693-D773A569DE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9C705-ECCC-4D0D-B918-0D05F2B089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8798D-2357-487C-AF20-706773D8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ACE959-653F-4F3B-9B0D-9076E534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566E62-D860-4B97-A7F6-BFB3D3D0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114A1B-A236-4596-B4B6-CA521239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5A532E-7681-417A-9EC1-D8053D33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322445-22D3-419D-8814-67FC3140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CE89F-A3C8-47CC-9DB6-B63D557D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629E1-ADD3-4D98-A887-935D6842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118E9-E268-4F1C-ADF6-8ECB4B96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93C13-8DBB-4672-A7D4-3BAF6709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855B2F-EE42-4DF9-A14A-0765592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102EA-7296-4B52-8731-B138F2DF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A7D107-68EE-4224-9D9D-CE7407E65F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5E955-49EE-4A21-A4B0-CF1EFD3753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5C147F-064E-4AF8-BF1B-31F5DF58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E0975F-0ABE-47D0-9921-1B14D1D1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069DFA-8F51-4E75-9756-181AC5D7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C80A45-6DAC-4137-89DF-4F1D3F26A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E7B4CC-21C7-46CE-AA58-191DA791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1ACC6-6835-4E74-B76E-6AFC02ED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0A532-77B5-4263-A298-85A2636C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5D40DF-0832-4A8D-B632-BBE72152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055C8-1841-4962-BF23-56D283F8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92AD13-EB10-4606-88F3-F4CBA3F5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CDABC0-5EA6-4506-9A3D-18863492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FB73CA-6351-481F-A0E1-93DDD0A0F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130D-3222-44B0-B2EB-B8D848722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70D53-F3FE-4372-BE8F-C01999C7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58BE7-6DA4-4D07-8ECA-88D3B3A1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75629-C863-4C10-9CB1-7543227B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80851-3096-40E8-B96E-ABDB5B19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A04C1-887F-4043-B91A-A60E98F10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F3EE-830F-4783-86C4-57FF4C29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E3702-A646-4C8E-AB93-A66AA05A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B0A92-67D8-41C0-B75B-5101A3F1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6E7A-5093-443C-8645-0EA57FE4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BDF4B-EE31-4156-8676-D02EB19D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045E5-248C-41A6-BCD2-E0150937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A329F-A2DD-4401-BE76-9008AD508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AA88C-ED9D-46D4-AAAF-513D18A076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08ACC-C317-4DA0-8C24-A723D1FB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A3950-1053-4856-88B2-968249AA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4E99F-77CD-4C44-B5E0-D3AD93E5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F9167-3FB9-4563-8D3F-C159CA81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32E9-8FAD-49D4-908B-5A8FFA38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F959F-0000-47E1-BBBF-99EE99DD4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A358C-5A8B-4941-87FF-0D1B05E1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74137-00F4-4A5C-8F65-B9793C83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DE804E-5AF7-43D0-935C-52E9AFA5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BF5FA-C900-4DB0-8321-1A3FB7F8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B0C54-84AF-4C4A-B973-179E5343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33643-6081-40E7-930A-008F82F7F6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0AFFF6-F30D-46D6-A9DD-D34675EE03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CFDEF5-BC19-46A7-9EED-02B6DD25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743FBB-E0EF-4F8B-B433-544F2F09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2781-E16C-420A-9699-57BCAF6AD2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C3A9-A804-4223-9D1D-583E9D1830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EC9F-0594-473E-902E-49C105C09F6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6AEE-084D-4E1B-8864-CB24CA2B05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2122-ACF1-40FB-A5E1-CB75A4004E3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8515-EFBF-43C0-B2AB-591B9EBAEFA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AB3B-7007-48CE-9E42-B1811E38340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5623-A89F-44BA-A0A3-ECA5D6C251F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D400-2322-4814-B70B-907F8550E2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9E1F-05CA-4B6C-B2A9-A5FF0DD3348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3901-CE14-46F8-BFEC-8841282E606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37DF-7C07-4BC7-82FA-D154960C8DE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C689-ECAE-4639-AE4E-BB4BC98272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3503-B706-4266-8B1D-AC45963464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E7E9-2241-4FFF-ACB3-E6672DA67DD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2638-7A35-442F-9BF8-4D1C655EEC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91FF-E517-40BF-A590-5C2AA94390D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00D8-7979-4125-A409-CD7F8E88BE9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530F-8861-45D6-A122-84696F9284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E6D3-E44A-4C35-8F3E-B474585EA81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34C4-DFE8-4F51-A969-F843452971C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4F7F-C48F-40AD-B148-FCD906A4CE3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5704-5EF4-4C32-A4B6-1F7BF669701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6327-9065-4A5D-BD7C-5C862EB99F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490760" y="292428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33360" y="2862360"/>
            <a:ext cx="844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 内 的  加 法 和 减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31720" y="2441160"/>
            <a:ext cx="6490080" cy="360"/>
            <a:chOff x="2331720" y="2441160"/>
            <a:chExt cx="6490080" cy="360"/>
          </a:xfrm>
        </p:grpSpPr>
        <p:sp>
          <p:nvSpPr>
            <p:cNvPr id="990" name="Line 10"/>
            <p:cNvSpPr/>
            <p:nvPr/>
          </p:nvSpPr>
          <p:spPr>
            <a:xfrm>
              <a:off x="2332080" y="2441520"/>
              <a:ext cx="648972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31720" y="2440800"/>
              <a:ext cx="648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886040" y="1730520"/>
            <a:ext cx="910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 复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99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01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TextBox 2"/>
          <p:cNvSpPr/>
          <p:nvPr/>
        </p:nvSpPr>
        <p:spPr>
          <a:xfrm>
            <a:off x="179280" y="982800"/>
            <a:ext cx="8785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笔算两位数加、减法应注意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计算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9+59=    19+32=     47+25=      23+37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-26=    61-18=     96-39=      70-24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5"/>
          <p:cNvSpPr/>
          <p:nvPr/>
        </p:nvSpPr>
        <p:spPr>
          <a:xfrm>
            <a:off x="1774800" y="182880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7"/>
          <p:cNvSpPr/>
          <p:nvPr/>
        </p:nvSpPr>
        <p:spPr>
          <a:xfrm>
            <a:off x="2411280" y="4321080"/>
            <a:ext cx="648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8"/>
          <p:cNvSpPr/>
          <p:nvPr/>
        </p:nvSpPr>
        <p:spPr>
          <a:xfrm>
            <a:off x="2563920" y="4662360"/>
            <a:ext cx="647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10"/>
          <p:cNvSpPr/>
          <p:nvPr/>
        </p:nvSpPr>
        <p:spPr>
          <a:xfrm>
            <a:off x="1860480" y="2709720"/>
            <a:ext cx="5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11"/>
          <p:cNvSpPr/>
          <p:nvPr/>
        </p:nvSpPr>
        <p:spPr>
          <a:xfrm>
            <a:off x="7740720" y="1835280"/>
            <a:ext cx="56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12"/>
          <p:cNvSpPr/>
          <p:nvPr/>
        </p:nvSpPr>
        <p:spPr>
          <a:xfrm>
            <a:off x="5562720" y="182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14"/>
          <p:cNvSpPr/>
          <p:nvPr/>
        </p:nvSpPr>
        <p:spPr>
          <a:xfrm>
            <a:off x="3646440" y="1827360"/>
            <a:ext cx="5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15"/>
          <p:cNvSpPr/>
          <p:nvPr/>
        </p:nvSpPr>
        <p:spPr>
          <a:xfrm>
            <a:off x="7724880" y="2708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16"/>
          <p:cNvSpPr/>
          <p:nvPr/>
        </p:nvSpPr>
        <p:spPr>
          <a:xfrm>
            <a:off x="5602320" y="2700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17"/>
          <p:cNvSpPr/>
          <p:nvPr/>
        </p:nvSpPr>
        <p:spPr>
          <a:xfrm>
            <a:off x="3591000" y="270036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矩形 18"/>
          <p:cNvSpPr/>
          <p:nvPr/>
        </p:nvSpPr>
        <p:spPr>
          <a:xfrm>
            <a:off x="274680" y="3398760"/>
            <a:ext cx="856944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练习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+24+48=      75-26-35=       42+27-5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19"/>
          <p:cNvSpPr/>
          <p:nvPr/>
        </p:nvSpPr>
        <p:spPr>
          <a:xfrm>
            <a:off x="2268360" y="4267080"/>
            <a:ext cx="785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20"/>
          <p:cNvSpPr/>
          <p:nvPr/>
        </p:nvSpPr>
        <p:spPr>
          <a:xfrm>
            <a:off x="4932360" y="42688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21"/>
          <p:cNvSpPr/>
          <p:nvPr/>
        </p:nvSpPr>
        <p:spPr>
          <a:xfrm>
            <a:off x="7812000" y="42670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矩形 1"/>
          <p:cNvSpPr/>
          <p:nvPr/>
        </p:nvSpPr>
        <p:spPr>
          <a:xfrm>
            <a:off x="179280" y="1268280"/>
            <a:ext cx="864396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8+16=      54+29=    36+58=     62+31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7-29=      61-34=    73-43=     90-2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0-17=      52+34=     93-46=     38+4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 29+35+9=       97-25-47=         53-9-37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5-46+31=      48+26-39=         53-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+37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2"/>
          <p:cNvSpPr/>
          <p:nvPr/>
        </p:nvSpPr>
        <p:spPr>
          <a:xfrm>
            <a:off x="1731960" y="12510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3597120" y="126828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4"/>
          <p:cNvSpPr/>
          <p:nvPr/>
        </p:nvSpPr>
        <p:spPr>
          <a:xfrm>
            <a:off x="5165640" y="12510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5"/>
          <p:cNvSpPr/>
          <p:nvPr/>
        </p:nvSpPr>
        <p:spPr>
          <a:xfrm>
            <a:off x="6935760" y="12762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9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6"/>
          <p:cNvSpPr/>
          <p:nvPr/>
        </p:nvSpPr>
        <p:spPr>
          <a:xfrm>
            <a:off x="1660680" y="20430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7"/>
          <p:cNvSpPr/>
          <p:nvPr/>
        </p:nvSpPr>
        <p:spPr>
          <a:xfrm>
            <a:off x="3576600" y="20271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8"/>
          <p:cNvSpPr/>
          <p:nvPr/>
        </p:nvSpPr>
        <p:spPr>
          <a:xfrm>
            <a:off x="5094360" y="204300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9"/>
          <p:cNvSpPr/>
          <p:nvPr/>
        </p:nvSpPr>
        <p:spPr>
          <a:xfrm>
            <a:off x="6935760" y="20685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0"/>
          <p:cNvSpPr/>
          <p:nvPr/>
        </p:nvSpPr>
        <p:spPr>
          <a:xfrm>
            <a:off x="1517760" y="2906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1"/>
          <p:cNvSpPr/>
          <p:nvPr/>
        </p:nvSpPr>
        <p:spPr>
          <a:xfrm>
            <a:off x="3387600" y="29462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2"/>
          <p:cNvSpPr/>
          <p:nvPr/>
        </p:nvSpPr>
        <p:spPr>
          <a:xfrm>
            <a:off x="5135400" y="29574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3"/>
          <p:cNvSpPr/>
          <p:nvPr/>
        </p:nvSpPr>
        <p:spPr>
          <a:xfrm>
            <a:off x="6935760" y="293220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14"/>
          <p:cNvSpPr/>
          <p:nvPr/>
        </p:nvSpPr>
        <p:spPr>
          <a:xfrm>
            <a:off x="1979640" y="4076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15"/>
          <p:cNvSpPr/>
          <p:nvPr/>
        </p:nvSpPr>
        <p:spPr>
          <a:xfrm>
            <a:off x="4498920" y="407664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16"/>
          <p:cNvSpPr/>
          <p:nvPr/>
        </p:nvSpPr>
        <p:spPr>
          <a:xfrm>
            <a:off x="7162920" y="407664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17"/>
          <p:cNvSpPr/>
          <p:nvPr/>
        </p:nvSpPr>
        <p:spPr>
          <a:xfrm>
            <a:off x="2195640" y="52293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18"/>
          <p:cNvSpPr/>
          <p:nvPr/>
        </p:nvSpPr>
        <p:spPr>
          <a:xfrm>
            <a:off x="4498920" y="5229360"/>
            <a:ext cx="571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>
            <a:off x="7810560" y="5229360"/>
            <a:ext cx="57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44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5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46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8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9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2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矩形 2"/>
          <p:cNvSpPr/>
          <p:nvPr/>
        </p:nvSpPr>
        <p:spPr>
          <a:xfrm>
            <a:off x="357120" y="1214280"/>
            <a:ext cx="76438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6"/>
          <p:cNvSpPr/>
          <p:nvPr/>
        </p:nvSpPr>
        <p:spPr>
          <a:xfrm>
            <a:off x="828720" y="105408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7"/>
          <p:cNvSpPr/>
          <p:nvPr/>
        </p:nvSpPr>
        <p:spPr>
          <a:xfrm>
            <a:off x="1476360" y="256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8"/>
          <p:cNvSpPr/>
          <p:nvPr/>
        </p:nvSpPr>
        <p:spPr>
          <a:xfrm>
            <a:off x="468360" y="2492280"/>
            <a:ext cx="20001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9"/>
          <p:cNvSpPr/>
          <p:nvPr/>
        </p:nvSpPr>
        <p:spPr>
          <a:xfrm>
            <a:off x="826920" y="3284640"/>
            <a:ext cx="50040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10"/>
          <p:cNvSpPr/>
          <p:nvPr/>
        </p:nvSpPr>
        <p:spPr>
          <a:xfrm>
            <a:off x="1476360" y="400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直接连接符 12"/>
          <p:cNvSpPr/>
          <p:nvPr/>
        </p:nvSpPr>
        <p:spPr>
          <a:xfrm>
            <a:off x="468360" y="3860640"/>
            <a:ext cx="164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5"/>
          <p:cNvSpPr/>
          <p:nvPr/>
        </p:nvSpPr>
        <p:spPr>
          <a:xfrm>
            <a:off x="3419640" y="256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6"/>
          <p:cNvSpPr/>
          <p:nvPr/>
        </p:nvSpPr>
        <p:spPr>
          <a:xfrm>
            <a:off x="2411280" y="2492280"/>
            <a:ext cx="20005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 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17"/>
          <p:cNvSpPr/>
          <p:nvPr/>
        </p:nvSpPr>
        <p:spPr>
          <a:xfrm>
            <a:off x="2914560" y="328464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8"/>
          <p:cNvSpPr/>
          <p:nvPr/>
        </p:nvSpPr>
        <p:spPr>
          <a:xfrm>
            <a:off x="3419640" y="400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直接连接符 19"/>
          <p:cNvSpPr/>
          <p:nvPr/>
        </p:nvSpPr>
        <p:spPr>
          <a:xfrm>
            <a:off x="2411280" y="3860640"/>
            <a:ext cx="164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20"/>
          <p:cNvSpPr/>
          <p:nvPr/>
        </p:nvSpPr>
        <p:spPr>
          <a:xfrm>
            <a:off x="5435640" y="256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21"/>
          <p:cNvSpPr/>
          <p:nvPr/>
        </p:nvSpPr>
        <p:spPr>
          <a:xfrm>
            <a:off x="4427640" y="2492280"/>
            <a:ext cx="20001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22"/>
          <p:cNvSpPr/>
          <p:nvPr/>
        </p:nvSpPr>
        <p:spPr>
          <a:xfrm>
            <a:off x="4788000" y="328464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23"/>
          <p:cNvSpPr/>
          <p:nvPr/>
        </p:nvSpPr>
        <p:spPr>
          <a:xfrm>
            <a:off x="5435640" y="400680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直接连接符 24"/>
          <p:cNvSpPr/>
          <p:nvPr/>
        </p:nvSpPr>
        <p:spPr>
          <a:xfrm>
            <a:off x="4572000" y="3860640"/>
            <a:ext cx="164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25"/>
          <p:cNvSpPr/>
          <p:nvPr/>
        </p:nvSpPr>
        <p:spPr>
          <a:xfrm>
            <a:off x="7740720" y="2565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26"/>
          <p:cNvSpPr/>
          <p:nvPr/>
        </p:nvSpPr>
        <p:spPr>
          <a:xfrm>
            <a:off x="6804000" y="2492280"/>
            <a:ext cx="20001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+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27"/>
          <p:cNvSpPr/>
          <p:nvPr/>
        </p:nvSpPr>
        <p:spPr>
          <a:xfrm>
            <a:off x="7164360" y="328464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28"/>
          <p:cNvSpPr/>
          <p:nvPr/>
        </p:nvSpPr>
        <p:spPr>
          <a:xfrm>
            <a:off x="7763040" y="4032360"/>
            <a:ext cx="500040" cy="50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直接连接符 29"/>
          <p:cNvSpPr/>
          <p:nvPr/>
        </p:nvSpPr>
        <p:spPr>
          <a:xfrm>
            <a:off x="6804000" y="3860640"/>
            <a:ext cx="1643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30"/>
          <p:cNvSpPr/>
          <p:nvPr/>
        </p:nvSpPr>
        <p:spPr>
          <a:xfrm>
            <a:off x="3708360" y="544500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答案略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Box 31"/>
          <p:cNvSpPr/>
          <p:nvPr/>
        </p:nvSpPr>
        <p:spPr>
          <a:xfrm>
            <a:off x="324000" y="10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里能填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79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81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090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1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092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3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4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5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6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7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8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9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100" name="Picture 5" descr="D:\我的文档-桌面-收藏夹\桌面\185a5b2649304c939f242d50860a096d.jpg"/>
          <p:cNvPicPr/>
          <p:nvPr/>
        </p:nvPicPr>
        <p:blipFill>
          <a:blip r:embed="rId8"/>
          <a:srcRect l="0" t="0" r="561" b="7286"/>
          <a:stretch/>
        </p:blipFill>
        <p:spPr>
          <a:xfrm>
            <a:off x="6286680" y="1432080"/>
            <a:ext cx="1643040" cy="157140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4" descr="D:\我的文档-桌面-收藏夹\桌面\300001051406131944152053756.jpg"/>
          <p:cNvPicPr/>
          <p:nvPr/>
        </p:nvPicPr>
        <p:blipFill>
          <a:blip r:embed="rId9"/>
          <a:stretch/>
        </p:blipFill>
        <p:spPr>
          <a:xfrm>
            <a:off x="3857760" y="1484280"/>
            <a:ext cx="1643040" cy="1467000"/>
          </a:xfrm>
          <a:prstGeom prst="rect">
            <a:avLst/>
          </a:prstGeom>
          <a:ln w="0">
            <a:noFill/>
          </a:ln>
        </p:spPr>
      </p:pic>
      <p:sp>
        <p:nvSpPr>
          <p:cNvPr id="1102" name="矩形 1"/>
          <p:cNvSpPr/>
          <p:nvPr/>
        </p:nvSpPr>
        <p:spPr>
          <a:xfrm>
            <a:off x="357120" y="644400"/>
            <a:ext cx="835812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海洋馆里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条黄金神仙鱼，花面神仙比黄金神仙鱼多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条，透红小丑鱼比黄金鱼少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Picture 3" descr="D:\我的文档-桌面-收藏夹\桌面\xin_411202280941688314433.jpg"/>
          <p:cNvPicPr/>
          <p:nvPr/>
        </p:nvPicPr>
        <p:blipFill>
          <a:blip r:embed="rId10"/>
          <a:srcRect l="0" t="5002" r="28593" b="0"/>
          <a:stretch/>
        </p:blipFill>
        <p:spPr>
          <a:xfrm>
            <a:off x="1428840" y="1486080"/>
            <a:ext cx="1657440" cy="1500120"/>
          </a:xfrm>
          <a:prstGeom prst="rect">
            <a:avLst/>
          </a:prstGeom>
          <a:ln w="0">
            <a:noFill/>
          </a:ln>
        </p:spPr>
      </p:pic>
      <p:sp>
        <p:nvSpPr>
          <p:cNvPr id="1104" name="圆角矩形 3"/>
          <p:cNvSpPr/>
          <p:nvPr/>
        </p:nvSpPr>
        <p:spPr>
          <a:xfrm>
            <a:off x="1442880" y="3003480"/>
            <a:ext cx="164340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黄金神仙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圆角矩形 5"/>
          <p:cNvSpPr/>
          <p:nvPr/>
        </p:nvSpPr>
        <p:spPr>
          <a:xfrm>
            <a:off x="3857760" y="295272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花面神仙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圆角矩形 9"/>
          <p:cNvSpPr/>
          <p:nvPr/>
        </p:nvSpPr>
        <p:spPr>
          <a:xfrm>
            <a:off x="6286680" y="300348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红小丑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12"/>
          <p:cNvSpPr/>
          <p:nvPr/>
        </p:nvSpPr>
        <p:spPr>
          <a:xfrm>
            <a:off x="500040" y="3575160"/>
            <a:ext cx="83581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花面神仙鱼有多少条？两种神仙鱼共有多少条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你还能提出其他数学问题并解答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13"/>
          <p:cNvSpPr/>
          <p:nvPr/>
        </p:nvSpPr>
        <p:spPr>
          <a:xfrm>
            <a:off x="1285920" y="4111560"/>
            <a:ext cx="7429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3+9=2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条） 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2+13=3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条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花面神仙鱼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条。两种神仙鱼共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14"/>
          <p:cNvSpPr/>
          <p:nvPr/>
        </p:nvSpPr>
        <p:spPr>
          <a:xfrm>
            <a:off x="1860480" y="5178600"/>
            <a:ext cx="38577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透红小丑鱼有多少条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3-8=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条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透红小丑鱼有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条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矩形 1"/>
          <p:cNvSpPr/>
          <p:nvPr/>
        </p:nvSpPr>
        <p:spPr>
          <a:xfrm>
            <a:off x="357120" y="430200"/>
            <a:ext cx="25718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小朋友跳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857160" y="1120680"/>
          <a:ext cx="6357960" cy="1093680"/>
        </p:xfrm>
        <a:graphic>
          <a:graphicData uri="http://schemas.openxmlformats.org/drawingml/2006/table">
            <a:tbl>
              <a:tblPr/>
              <a:tblGrid>
                <a:gridCol w="1589040"/>
                <a:gridCol w="1589040"/>
                <a:gridCol w="1590840"/>
                <a:gridCol w="1589040"/>
              </a:tblGrid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青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东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2" name="矩形 3"/>
          <p:cNvSpPr/>
          <p:nvPr/>
        </p:nvSpPr>
        <p:spPr>
          <a:xfrm>
            <a:off x="571680" y="2143080"/>
            <a:ext cx="78642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小强比小丁少跳了多少下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小强和小青一共跳了多少下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你还能提出什么问题？并列出算式进行计算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矩形 4"/>
          <p:cNvSpPr/>
          <p:nvPr/>
        </p:nvSpPr>
        <p:spPr>
          <a:xfrm>
            <a:off x="1785960" y="2736720"/>
            <a:ext cx="242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0-45=1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下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矩形 5"/>
          <p:cNvSpPr/>
          <p:nvPr/>
        </p:nvSpPr>
        <p:spPr>
          <a:xfrm>
            <a:off x="1785960" y="3808440"/>
            <a:ext cx="242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5+36=8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下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矩形 6"/>
          <p:cNvSpPr/>
          <p:nvPr/>
        </p:nvSpPr>
        <p:spPr>
          <a:xfrm>
            <a:off x="1714680" y="5000760"/>
            <a:ext cx="5143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小东和小丁一共跳了多少下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3+60=11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下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答：小东和小丁一共跳了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1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组合 2"/>
          <p:cNvGrpSpPr/>
          <p:nvPr/>
        </p:nvGrpSpPr>
        <p:grpSpPr>
          <a:xfrm>
            <a:off x="-23760" y="46080"/>
            <a:ext cx="3479760" cy="525600"/>
            <a:chOff x="-23760" y="46080"/>
            <a:chExt cx="3479760" cy="525600"/>
          </a:xfrm>
        </p:grpSpPr>
        <p:pic>
          <p:nvPicPr>
            <p:cNvPr id="1117" name="圆角矩形 47" descr=""/>
            <p:cNvPicPr/>
            <p:nvPr/>
          </p:nvPicPr>
          <p:blipFill>
            <a:blip r:embed="rId1"/>
            <a:stretch/>
          </p:blipFill>
          <p:spPr>
            <a:xfrm>
              <a:off x="139680" y="46080"/>
              <a:ext cx="3316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8" name="组合 4"/>
            <p:cNvGrpSpPr/>
            <p:nvPr/>
          </p:nvGrpSpPr>
          <p:grpSpPr>
            <a:xfrm>
              <a:off x="-23760" y="141120"/>
              <a:ext cx="461880" cy="273960"/>
              <a:chOff x="-23760" y="141120"/>
              <a:chExt cx="461880" cy="273960"/>
            </a:xfrm>
          </p:grpSpPr>
          <p:sp>
            <p:nvSpPr>
              <p:cNvPr id="1119" name="椭圆 52"/>
              <p:cNvSpPr/>
              <p:nvPr/>
            </p:nvSpPr>
            <p:spPr>
              <a:xfrm rot="16200000">
                <a:off x="225000" y="30384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0" name="椭圆 57" descr=""/>
              <p:cNvPicPr/>
              <p:nvPr/>
            </p:nvPicPr>
            <p:blipFill>
              <a:blip r:embed="rId2"/>
              <a:stretch/>
            </p:blipFill>
            <p:spPr>
              <a:xfrm>
                <a:off x="221400" y="26136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1" name="椭圆 58"/>
              <p:cNvSpPr/>
              <p:nvPr/>
            </p:nvSpPr>
            <p:spPr>
              <a:xfrm rot="16200000">
                <a:off x="225000" y="175320"/>
                <a:ext cx="100080" cy="122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22" name="椭圆 61" descr=""/>
              <p:cNvPicPr/>
              <p:nvPr/>
            </p:nvPicPr>
            <p:blipFill>
              <a:blip r:embed="rId3"/>
              <a:stretch/>
            </p:blipFill>
            <p:spPr>
              <a:xfrm>
                <a:off x="221400" y="154800"/>
                <a:ext cx="216720" cy="10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3" name="圆角矩形 6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3760" y="27648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4" name="圆角矩形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-23760" y="24984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5" name="圆角矩形 67" descr=""/>
              <p:cNvPicPr/>
              <p:nvPr/>
            </p:nvPicPr>
            <p:blipFill>
              <a:blip r:embed="rId6"/>
              <a:stretch/>
            </p:blipFill>
            <p:spPr>
              <a:xfrm>
                <a:off x="-23760" y="16776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6" name="圆角矩形 70" descr=""/>
              <p:cNvPicPr/>
              <p:nvPr/>
            </p:nvPicPr>
            <p:blipFill>
              <a:blip r:embed="rId7"/>
              <a:stretch/>
            </p:blipFill>
            <p:spPr>
              <a:xfrm>
                <a:off x="-23760" y="141120"/>
                <a:ext cx="387360" cy="9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5:28:00Z</dcterms:created>
  <dc:creator/>
  <dc:description/>
  <dc:language>en-US</dc:language>
  <cp:lastModifiedBy>万润仪器贸易公司</cp:lastModifiedBy>
  <dcterms:modified xsi:type="dcterms:W3CDTF">2020-08-21T00:45:44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